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0B2-CA7E-4C57-8ED0-F657E49B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788-361A-4644-AC0F-ED210C28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7F3-4403-45E9-B3F3-4242637C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FFA-3EA4-4982-81E5-33176040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4D3-DEF0-4F78-8915-2C1CFE32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A78-0F2F-4044-B3BE-A0F6A5C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5FD-40B1-4A56-8658-AD7C8FD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2C5-DDD1-4AE1-9155-29D65CD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6C5-801F-496E-9AF2-08B566EA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F64-8AD2-4DE7-B700-60E79CFB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F5D-79A9-43B9-AFCF-477BEF1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DF1-7AE0-42A8-B0AC-AA06F094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00D-FC46-46A1-B861-D9A7603F0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718080"/>
            <a:ext cx="4587840" cy="3139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56160" y="3718080"/>
            <a:ext cx="4587840" cy="313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4587840" cy="3140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56160" y="609480"/>
            <a:ext cx="4587840" cy="314028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17560" y="3209760"/>
            <a:ext cx="1158840" cy="655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663560" y="3674520"/>
            <a:ext cx="1260720" cy="563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 rot="5400000">
            <a:off x="4448880" y="1689840"/>
            <a:ext cx="790560" cy="9572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 rot="5400000">
            <a:off x="3840120" y="1754280"/>
            <a:ext cx="858960" cy="82368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76960" y="3627360"/>
            <a:ext cx="1149480" cy="654120"/>
          </a:xfrm>
          <a:prstGeom prst="ellipse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254400"/>
            <a:ext cx="1252800" cy="563400"/>
          </a:xfrm>
          <a:prstGeom prst="ellipse">
            <a:avLst/>
          </a:prstGeom>
          <a:solidFill>
            <a:srgbClr val="ff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 rot="16200000">
            <a:off x="3882240" y="4805280"/>
            <a:ext cx="784080" cy="958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 rot="16200000">
            <a:off x="4415760" y="4869360"/>
            <a:ext cx="857160" cy="8319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21118" b="-7393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34320" y="1471680"/>
            <a:ext cx="979200" cy="188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03960" y="1197000"/>
            <a:ext cx="1454040" cy="116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084640" y="2624040"/>
            <a:ext cx="1630440" cy="1003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013600" y="2286000"/>
            <a:ext cx="9730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054160" y="2362320"/>
            <a:ext cx="599040" cy="755640"/>
            <a:chOff x="2054160" y="2362320"/>
            <a:chExt cx="599040" cy="7556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054160" y="2362320"/>
              <a:ext cx="539640" cy="6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062440" y="2841480"/>
              <a:ext cx="59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TK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52280" y="3252960"/>
            <a:ext cx="1370160" cy="404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84120" y="2795760"/>
            <a:ext cx="1521000" cy="40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3798720" y="2293920"/>
            <a:ext cx="544680" cy="60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975040" y="3252960"/>
            <a:ext cx="1390680" cy="40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142920" y="2286000"/>
            <a:ext cx="799920" cy="2761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1066680" y="2197080"/>
            <a:ext cx="957960" cy="546120"/>
            <a:chOff x="1066680" y="2197080"/>
            <a:chExt cx="957960" cy="546120"/>
          </a:xfrm>
        </p:grpSpPr>
        <p:pic>
          <p:nvPicPr>
            <p:cNvPr id="67" name="" descr=""/>
            <p:cNvPicPr/>
            <p:nvPr/>
          </p:nvPicPr>
          <p:blipFill>
            <a:blip r:embed="rId12"/>
            <a:stretch/>
          </p:blipFill>
          <p:spPr>
            <a:xfrm>
              <a:off x="1066680" y="2197080"/>
              <a:ext cx="9194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30000" y="23065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2876400" y="2590920"/>
            <a:ext cx="568440" cy="58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2666880" y="2209680"/>
            <a:ext cx="920880" cy="32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142920" y="1596960"/>
            <a:ext cx="1565280" cy="46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880" y="7621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GNOME Mobil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2480" y="1666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gnome.org/mobil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9120" y="762120"/>
            <a:ext cx="19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rcial De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160" y="380988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ncub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9840" y="380988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Consi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1080" y="4648320"/>
            <a:ext cx="912240" cy="1067760"/>
            <a:chOff x="181080" y="4648320"/>
            <a:chExt cx="912240" cy="1067760"/>
          </a:xfrm>
        </p:grpSpPr>
        <p:pic>
          <p:nvPicPr>
            <p:cNvPr id="78" name="" descr=""/>
            <p:cNvPicPr/>
            <p:nvPr/>
          </p:nvPicPr>
          <p:blipFill>
            <a:blip r:embed="rId16"/>
            <a:stretch/>
          </p:blipFill>
          <p:spPr>
            <a:xfrm>
              <a:off x="252360" y="4648320"/>
              <a:ext cx="79956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81080" y="5409000"/>
              <a:ext cx="9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oC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1271520" y="5221440"/>
            <a:ext cx="1285920" cy="55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4240" y="5989680"/>
            <a:ext cx="31633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Kit – Disks, Power, Pulse Audio u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8"/>
          <a:stretch/>
        </p:blipFill>
        <p:spPr>
          <a:xfrm>
            <a:off x="1422360" y="4425840"/>
            <a:ext cx="2330640" cy="501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9"/>
          <a:stretch/>
        </p:blipFill>
        <p:spPr>
          <a:xfrm>
            <a:off x="4695840" y="4603680"/>
            <a:ext cx="1609560" cy="86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0"/>
          <a:stretch/>
        </p:blipFill>
        <p:spPr>
          <a:xfrm>
            <a:off x="2728800" y="5708520"/>
            <a:ext cx="160992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01680" y="4952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1"/>
          <a:stretch/>
        </p:blipFill>
        <p:spPr>
          <a:xfrm>
            <a:off x="7588080" y="5442120"/>
            <a:ext cx="1209960" cy="657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2"/>
          <a:stretch/>
        </p:blipFill>
        <p:spPr>
          <a:xfrm>
            <a:off x="5559480" y="5724360"/>
            <a:ext cx="1377720" cy="1133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083080" y="4518000"/>
            <a:ext cx="7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9:09:43Z</dcterms:created>
  <dc:creator>Bharat Kapoor</dc:creator>
  <dc:description/>
  <dc:language>en-US</dc:language>
  <cp:lastModifiedBy>Bharat Kapoor</cp:lastModifiedBy>
  <dcterms:modified xsi:type="dcterms:W3CDTF">2009-09-08T19:42:09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6264193</vt:r8>
  </property>
  <property fmtid="{D5CDD505-2E9C-101B-9397-08002B2CF9AE}" pid="3" name="_AuthorEmail">
    <vt:lpwstr>Kapoor@motorola.com</vt:lpwstr>
  </property>
  <property fmtid="{D5CDD505-2E9C-101B-9397-08002B2CF9AE}" pid="4" name="_AuthorEmailDisplayName">
    <vt:lpwstr>Kapoor Bharat-bkapoor</vt:lpwstr>
  </property>
  <property fmtid="{D5CDD505-2E9C-101B-9397-08002B2CF9AE}" pid="5" name="_EmailSubject">
    <vt:lpwstr>Brochure</vt:lpwstr>
  </property>
  <property fmtid="{D5CDD505-2E9C-101B-9397-08002B2CF9AE}" pid="6" name="_NewReviewCycle">
    <vt:lpwstr/>
  </property>
</Properties>
</file>